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7BA-D0ED-49E9-B939-B163CF1C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FB4-EE3C-40C5-9A6C-3056F048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05FEF-DCC1-40F1-8966-E982F4E9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6C4E0-10CC-4EEC-90DE-B7036240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606DE-1FED-4B36-A192-9FF50A96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75D12-6685-417C-AEBF-431A395C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050A0-C760-49D2-9F6E-229735D3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6C548-043C-405E-B8ED-A5EC3F69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E63B5-4489-402D-A3BD-AA768E77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3E3B6-B7F3-459D-A125-B37A2BCE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838AC-DAFB-4059-874D-F33B83DD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A7619-B58D-493C-801B-0D78C383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AEF-88A1-4155-A078-C4258846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118C8-8156-430B-BD73-2A4C89A4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87B3F-4362-4AB8-B3DA-A61EC26F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48421-34A4-47D6-A3EC-D618A850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4F911-C981-4717-88A1-190423E8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36EDD-2B16-41A9-9747-53496CD9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68A4C-AF8D-4D1B-ACF7-2DC0EAB9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F1A54-2370-4F80-BE0D-83D1F9AE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3BAEA-483D-421D-BBD5-50AB06DF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6B6DE-A6F0-4D52-B0A4-D1EFB5FC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D98E4-3933-4143-B457-DCC26AAA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270-D1DC-48A7-AD74-A255B9B4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EC64E-CB53-40BC-81F1-84078867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42BB0-D2BC-4E8E-8617-D0B2CE47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17ACF-D720-4758-ABF0-FD0DDE43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60EF3-BA46-4FBE-98E9-9C5704FD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CBE77-31E5-44BB-B5B1-CC6D2233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2CBF1-6DF4-49C2-AB4E-E768508D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3FD19-3262-456D-9FCB-D4C371C4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F05E4-C611-4C80-9EEE-5F6A529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72AAF-DD84-4F90-A0E0-0D41C059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9335C-2BEC-4EA8-A449-5995326F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CACB-C593-4521-A36C-17E9D33E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B63DA-506F-4A28-A0C6-EA504256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AA4C5-F506-408B-98F0-86D5B89B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16186-9223-4DA9-AF58-D702C528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5799F-DFB7-401A-9C85-FC295925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A8741-0AF3-42B8-B0FA-A9DBF5A3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099F9-E96F-46F9-BAAB-2944C480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27E4E-2C92-435F-A9AA-08FD531C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B7E7D-D1E9-4869-A821-8C533D28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ADE5B-67AB-479B-879A-133DF606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D24FC-48B6-4F2B-A60C-34ADCC13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3802-DF23-43C0-ADC4-72ACBAE8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BF5AC-CEBB-4484-9DDC-1532AE5E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BCEAF-BDE0-48F0-BE7B-267A11F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0B8B8-AE64-44AC-800E-3BB9CCD6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BA823-B3C2-41B2-897E-44670119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6BBE3-4B38-4C32-A9B7-0D2E6CD1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3E5B6-C3CE-4D23-81FD-D9A6DF1F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127C3-6D0E-424D-AB5C-01A4F35D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45D81-3BBC-4CE1-9E82-D78D4390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D3FB8-0923-4130-AC8D-43FADF9C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D534A-7746-4DDD-8A5F-1B069734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725B-F8BB-48AB-80D1-17B12ECD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68A6C-8685-464D-B596-002068EC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48347-CFC9-4040-A120-6533033A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4E5C8-70EA-421F-A0FC-F51F6C5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A325C-D1AD-450F-AAEC-50E5AFD6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06676-1A17-4E5B-872E-DA59495F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931AE-6E1E-4862-B486-90FF9034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4EDE4-72CC-4768-98E3-27AF86F3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2C90E-4357-49D4-B86B-F0785223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2ADA8-9D98-475B-9356-368EA46F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7AA9C-C0F9-42C5-B35D-A49319E5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379C-7EC9-4E15-B487-D8BE7F7C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4DADE-FF08-4E38-A835-F3941909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3C641-5D1C-4C69-9BC1-815550B8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9ABC5-ED2B-494F-A44D-068D9270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94DB9-78E7-4F26-A8B9-FFA579FD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2F0B0-9BF9-4B65-B490-65F40251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3C48E-8EE3-4EE1-A27E-66330BEE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4C38B-323D-4D7D-9158-1E2C92EB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42DD1-53EB-4FAB-A197-439A8BD1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88E07-C4B1-4248-8D9D-85571E3D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0F9D2-47B2-4C4E-889B-90531F34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B108-1039-4F9C-8266-C00EBC47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92951-47B7-44AA-A248-AFF40B54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0356C-52E6-4C60-A820-6F19F869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0D13DF-106C-467C-96E4-2C3823D6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FF51A-7D85-4AE2-BD4A-0FF73100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B7C10-6BCB-4335-9B54-1F2B3AFA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00D6A-0605-4DDF-B670-57EACD8D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51085-C042-4469-8375-99B53A48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02EF5-5820-44EA-B6E0-32B04E7C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A199E-3B16-4374-BAF9-83D994B1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D8984-0AAA-4336-A15B-45E8CFEB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53BC-4097-465E-A178-05A85B04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668DA-7BA9-4614-8F9A-C538DF03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D4C86-C6B8-45DF-819D-7C30222E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72FA91-3CDE-4AC7-BE1C-44CB93C3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790A3-2944-4110-8F65-7832DF7D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7744E-326E-4B71-A2DB-C6C516D0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53C068-ED69-4165-A02C-A5DCE714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CD0BD-A946-4497-99B9-295C17BF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B0CB0-4002-44D9-87E9-3980CC52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80F27D-6D13-494E-A0F4-9BF05DF8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2193C-0344-4E8F-8EA0-FF522A43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5212-CDEE-4140-BA08-C54016CF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573AD-4AB6-479B-9BD4-30B4212F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3485D-4870-480D-8BFA-ED5B69C6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BFDDC-0464-444E-8877-27A98088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9011E-97E3-409A-9319-E01ABB2C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BE462-A369-44EF-A281-90249624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6D141-E96F-4E89-B22E-FF1940ED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8F5FF-A298-4974-B665-ED84B96A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DFE4B-42DB-426E-B90F-4D29F22C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8C62F-CB42-41F8-B4B0-1EA67BA2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0777D-273B-4EBB-8B7C-55D0B354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C6E-34CE-41CE-911A-CC3BE98C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DB53-B210-40FD-AAC7-60F24E1B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8C90F-543E-4790-83C5-2C478B6C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0A6A6-C507-4BBD-B732-A89E12F1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32D32F-67FD-4FB2-B0C7-985FD235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1125A1-AAE9-4265-824F-6899FC04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6959F9-3F0F-4A85-A96F-FA36B0DC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EEF9B-7DFB-4588-B184-B7612D0D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F9327-AD97-4BFD-9814-CAB8DAE1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0BA5B-2DF2-457F-8973-0B1F8746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CC735-BAB2-4CDF-B320-79C4907E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EA533-451C-4783-91E0-035118BF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761D-5A06-4773-A5E9-6F662FB0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8E615-1600-42CF-9490-0E6467E8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A36274-3440-4708-9A20-303A0B55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093CA-A248-459D-A9E6-1DA8E59E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68E06E-D956-42BC-921C-FC2E1C33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8023D-C1E1-4988-B52F-7E48AEBF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58170-A49F-48B0-8FB1-E76D583D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06FF9-664C-4F3A-BED0-32F4231A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B3EF0-85EC-4D96-BB4A-44A5A463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CC11E-8F03-4D60-A173-462D98E4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110BF-A106-4965-9ACE-62A0137A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A34F-A5F3-4D5E-A6BD-0C4BF58F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7B9B3-F89C-4C27-8F29-11EF6609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B8077-CA17-4215-8ECD-06E094F9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B3684-D678-4499-A548-27700DCA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0B9645-1267-46A0-9C12-A83D50ED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B065C1-F58A-476E-911D-91C082E9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EEBB25-2A5C-4605-858B-7463297B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BD6487-27C1-4751-B96D-A73E272E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3586A-DC84-49A4-8146-61F14A51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F20A0-D39F-40CC-8211-8B69D437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B43065-58A1-4674-A9DB-DCEE80F3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F9CE-136A-4A53-B23C-07CE85B1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E433FC-F427-4378-92CF-304FDF84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B6501D-2E06-4CC5-A0CD-B4C2B46A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EBEFF-9637-4541-A6D8-6271E84F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BC23A1-DCEC-44F1-A4EA-5456E848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214D2-1DF1-4E92-9362-9DC81421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5D0122-988D-4ECA-9CF7-E4FB2051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42B07F-80C0-40E3-8B5D-3133E100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524129-E4AA-42FC-9BD6-9A8EF7D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F460F2-93A0-47E2-8C46-DBD5F59F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05A47-B43E-4D86-BE92-544D188F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8F32-42FE-4041-8409-4367CF7A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1C139-219D-4E49-97DE-F976330C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B369D-A57F-429D-94B1-6202BA27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B5C2F2-187F-44D1-831D-8AC79EDB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7044E3-5ACA-4D93-9239-19B4A25C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84A7EC-E622-4C6A-BB33-BB36E89C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F01965-CEDD-4B3F-9AE6-ACFDE14E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6A7561-3519-4337-B3AB-2163E807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832D95-C2F3-4519-A068-650CEAB4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ABF14-7A6F-4727-82C9-878B2B9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BC6AE-12DC-48D8-AC58-A9866412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B1C4-272A-45A5-B66B-6412B4F8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2D6C5C-2FF2-4825-9527-F51319F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569982-B51A-4BB0-8421-0E3267DC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7BCC7B-A617-4AC1-930E-E1A50783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571B-41C3-4D2C-BE2A-7477CEB0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AFC1-A338-494A-A260-19174E8D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6DAC-A886-4ADF-9988-66BC7A75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B7B94-C011-487B-A701-F0E63EE2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10A-B2AC-4B6D-8B04-C2253C17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9E44-A3A6-4DD3-B828-463B616B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3B5B-FF1D-4932-9C58-8FC6024B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1088-DE2E-4AB2-A493-4808F219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D875-CBF6-4CAB-90F3-863443C0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E73A-B91A-49ED-9E38-92C8EE85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4152-17F5-46D2-8F8C-3205FAEA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7F60-8338-45B4-8458-8DD31AFA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799A8-2BFC-43D6-9787-F91A46EC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C029A-887F-4BEF-A6A7-3F63D2C8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9A5C9-E1A0-45AF-A510-A93F050D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990-102D-45FE-A2B1-E03AEFA3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1D618-96D1-4A50-84DF-93A0679B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15DC-EFC5-427D-94B4-FB9015F3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9B4C5-4961-4CEE-AFD7-30FF8C14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A720-426E-4D69-BDD0-3027A77D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2B0B-11E6-4897-88DE-36DEF44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C38DF-214D-4FC8-9DE1-9043C10D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F43D-6E32-43D3-B04A-58AC9ACE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1C223-DF02-48B0-BB91-9633DD0A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E12EF-F1C9-4450-9B0D-2DFCE324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DA963-8366-4F16-81EE-1EAD908A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BB6-440E-45F2-BF8D-7DC642F4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6C30-90B1-4F75-9AA1-DAA9EE75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D390-9D98-404A-9771-6ABDADD0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05FA0-35EC-4F48-B2C8-971B1FD0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C7533-FE1A-45DB-BFB8-3956F29C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B961B-A033-4730-95DB-8D414010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40649-5664-4CA2-B2F9-578D2C09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66481-48EB-4470-AD1A-F6D440A5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4904A-C579-4910-9933-1D8477C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BBD5E-C85D-4ADE-850F-79905F6A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6875E-479B-408F-9FDB-06E479FC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5C5-3B00-4DBB-AEF0-25E47385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AB60-06FF-488E-A282-799ADBC0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8117-18E6-4E37-B54C-DE0A793F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A750E-BC11-465E-9F8C-226A9B3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2B867-82F2-4BAE-9E8E-C7369F16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8A8F9-EC73-4895-AECF-E913E1F7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9C6C4-B2B7-4773-B8A3-F0B10F6B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05BDF-4C81-412B-939D-CCF99F10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E01C-1965-42DC-8518-30422CF4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D1860-33CF-4E05-9FFF-8FD62668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2DAEB-0E86-4F9F-A748-75D660EE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F7D-DBAC-4404-86AB-98578D33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83466-4CCB-4EFA-8A11-355E45D3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791CF-8332-42B7-84B4-C21AB0C0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1A14A-109F-4706-9CA4-6047FC90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0BCC5-26ED-4F72-A09E-6109CC30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31250-4EFF-48C8-8F0D-A86456EF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BF460-0EAF-4F1A-BAED-97242864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D4778-BD21-48B0-B6A6-DE273AE4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1150A-2513-43A3-86E7-5687008E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A7665-3467-48C0-B668-C771092F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D39FB-55B1-44D6-9DB7-53EE24D1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038-6B8C-40C6-B2D0-02FFB011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877F6-16F7-4409-AE2E-A344D115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1FEE9-BF72-43FB-804D-37E805D0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68F8C-7518-4C35-AFC2-1B87EE3E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2071D-3AA5-4759-B5D0-AB5BDF6C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466ED-4BBC-4C04-B5E3-AE3060C3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403A7-D7DA-4BA2-BCA9-FA836066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146A1-BAB1-4D02-B63F-3AA0B8BC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5F254-A816-4D15-814E-D10AECC1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F266C-FD25-475E-9E05-FEF7A19A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368B3-589A-4D3F-9190-D87C7614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E2C-E297-4DBC-AC2B-8A56843E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F65E4-DF0D-450F-AB46-E023E485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C8E9E-EE5D-4AE5-9B15-1BF9DCC6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42E24-F64E-43B9-85AD-3C936028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A208F-67D1-4F87-B87D-5B3C0FDE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2F823-F4BF-468E-B7FB-9AED19A7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802C2-2C6E-4642-BFD6-B524B2F9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5F6AE-76F7-4F7F-BC0C-71575C75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7E3B8-CCFB-4AF8-B3D1-60C1626C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210F4-F9CF-46D3-9A9B-0E94BB07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B44CC-379D-458B-AE6F-E59A201A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91C-65B3-494F-8D7B-ED0D5904C7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0286-8C73-414F-87FC-AF92BA85E1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D268-FDCB-45FE-835D-08385CA4C5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FBEA-CB60-479E-B48A-D5B9B11E20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A731-14F1-439F-8C9F-4C58995F97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2332-AAE1-4930-BE5E-AB108915CF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3D10-3045-4D11-84B3-379D966878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D30C-AE2C-44E2-B2F7-4BCC6D553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548F-4632-4B1C-8293-30D7A26C37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D5B5-0682-485C-913C-17491DCA4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E18C-A2DF-42BE-99C7-E076688436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BF74-3490-459C-BBF7-F17210E703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85DC-3FC9-484F-9EDF-A438B8BC8A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4369-A5B7-47D5-B701-52E3FBCD42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ED5A-F15C-4A88-A718-A4619E35B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61DA-5D23-43B9-89B0-306DB480E9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5B39-9434-48F0-B29A-CFF829C83C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87CC-D381-4CA2-B005-DAF0E2304D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80FB-D2D3-4F30-900C-D095177FE4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65EE-5AEA-4165-AAB9-91EAC8A316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5ADC-E9AA-4423-A5F1-CD737A4518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4E0C-7796-4D59-9E8F-1E30BBC114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D1C6-520A-42B5-A2E3-66FE7AA437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52F4-35E8-4C49-B90A-6C362A988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47E4-D060-4998-AD28-5D3675D9B6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FBA3-DC5A-49CB-B776-AA52CDA549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BC83-1748-4D51-9D4F-08AFC19E47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04C6-C1E9-4AD3-9E79-B5BF011303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8CB6-B158-4656-A270-6B800901AC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0512-4C67-4894-B8FA-29C4144BCC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DA8A-CE73-4124-BC19-84E365EFC2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5FEF-581F-46DE-804E-6386F9B878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40BB-D538-4440-AA63-8796F0E390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7CED-C280-4A31-B8C6-7CEA9DC75D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4ED7-D573-4D08-9339-9A3257A49C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AE75-618F-4496-820F-22DFFE05CE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8A0F-9EBF-4D58-9508-365E4CB72A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9641-582D-450C-A983-A2BF05A829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EE4E-0193-4778-A7F8-AD1F47E294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0E73-F91C-4103-9852-32D5736351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647720" y="2962440"/>
            <a:ext cx="58485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69633" descr=""/>
          <p:cNvPicPr/>
          <p:nvPr/>
        </p:nvPicPr>
        <p:blipFill>
          <a:blip r:embed="rId1"/>
          <a:stretch/>
        </p:blipFill>
        <p:spPr>
          <a:xfrm>
            <a:off x="209520" y="790560"/>
            <a:ext cx="8724960" cy="57340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8244000" y="1773360"/>
            <a:ext cx="431640" cy="3632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5724360" y="2982960"/>
            <a:ext cx="792360" cy="3636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5760720" cy="3636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5761080" cy="3636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179280" y="5157720"/>
            <a:ext cx="5761080" cy="363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7"/>
          <a:stretch/>
        </p:blipFill>
        <p:spPr>
          <a:xfrm>
            <a:off x="179280" y="5589720"/>
            <a:ext cx="5761080" cy="3632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8"/>
          <a:stretch/>
        </p:blipFill>
        <p:spPr>
          <a:xfrm>
            <a:off x="179280" y="6021360"/>
            <a:ext cx="576108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8609" descr=""/>
          <p:cNvPicPr/>
          <p:nvPr/>
        </p:nvPicPr>
        <p:blipFill>
          <a:blip r:embed="rId1"/>
          <a:stretch/>
        </p:blipFill>
        <p:spPr>
          <a:xfrm>
            <a:off x="271440" y="928800"/>
            <a:ext cx="8601120" cy="50004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8028000" y="2736720"/>
            <a:ext cx="503280" cy="4240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8028000" y="4394160"/>
            <a:ext cx="5032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组合 67588"/>
          <p:cNvGrpSpPr/>
          <p:nvPr/>
        </p:nvGrpSpPr>
        <p:grpSpPr>
          <a:xfrm>
            <a:off x="237960" y="1333440"/>
            <a:ext cx="8668080" cy="4832280"/>
            <a:chOff x="237960" y="1333440"/>
            <a:chExt cx="8668080" cy="4832280"/>
          </a:xfrm>
        </p:grpSpPr>
        <p:pic>
          <p:nvPicPr>
            <p:cNvPr id="1070" name="图片 67586" descr=""/>
            <p:cNvPicPr/>
            <p:nvPr/>
          </p:nvPicPr>
          <p:blipFill>
            <a:blip r:embed="rId1"/>
            <a:stretch/>
          </p:blipFill>
          <p:spPr>
            <a:xfrm>
              <a:off x="237960" y="1333440"/>
              <a:ext cx="866808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图片 67587" descr=""/>
            <p:cNvPicPr/>
            <p:nvPr/>
          </p:nvPicPr>
          <p:blipFill>
            <a:blip r:embed="rId2"/>
            <a:stretch/>
          </p:blipFill>
          <p:spPr>
            <a:xfrm>
              <a:off x="4100400" y="3043080"/>
              <a:ext cx="4503960" cy="312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8101080" y="1930320"/>
            <a:ext cx="5032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66561" descr=""/>
          <p:cNvPicPr/>
          <p:nvPr/>
        </p:nvPicPr>
        <p:blipFill>
          <a:blip r:embed="rId1"/>
          <a:stretch/>
        </p:blipFill>
        <p:spPr>
          <a:xfrm>
            <a:off x="262080" y="1125360"/>
            <a:ext cx="8619840" cy="222912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66562" descr=""/>
          <p:cNvPicPr/>
          <p:nvPr/>
        </p:nvPicPr>
        <p:blipFill>
          <a:blip r:embed="rId2"/>
          <a:stretch/>
        </p:blipFill>
        <p:spPr>
          <a:xfrm>
            <a:off x="2367000" y="3460680"/>
            <a:ext cx="4410000" cy="2200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5940360" y="2809800"/>
            <a:ext cx="79236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65537" descr=""/>
          <p:cNvPicPr/>
          <p:nvPr/>
        </p:nvPicPr>
        <p:blipFill>
          <a:blip r:embed="rId1"/>
          <a:stretch/>
        </p:blipFill>
        <p:spPr>
          <a:xfrm>
            <a:off x="181080" y="790560"/>
            <a:ext cx="8638920" cy="55911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611280" y="2938320"/>
            <a:ext cx="7561080" cy="4240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611280" y="3514680"/>
            <a:ext cx="7561080" cy="777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7561440" cy="4240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5"/>
          <a:stretch/>
        </p:blipFill>
        <p:spPr>
          <a:xfrm>
            <a:off x="539640" y="5013360"/>
            <a:ext cx="7561440" cy="4237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6"/>
          <a:stretch/>
        </p:blipFill>
        <p:spPr>
          <a:xfrm>
            <a:off x="611280" y="5589720"/>
            <a:ext cx="75610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64513" descr=""/>
          <p:cNvPicPr/>
          <p:nvPr/>
        </p:nvPicPr>
        <p:blipFill>
          <a:blip r:embed="rId1"/>
          <a:stretch/>
        </p:blipFill>
        <p:spPr>
          <a:xfrm>
            <a:off x="304920" y="800280"/>
            <a:ext cx="853416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组合 63491"/>
          <p:cNvGrpSpPr/>
          <p:nvPr/>
        </p:nvGrpSpPr>
        <p:grpSpPr>
          <a:xfrm>
            <a:off x="533520" y="765000"/>
            <a:ext cx="8076960" cy="5548320"/>
            <a:chOff x="533520" y="765000"/>
            <a:chExt cx="8076960" cy="5548320"/>
          </a:xfrm>
        </p:grpSpPr>
        <p:pic>
          <p:nvPicPr>
            <p:cNvPr id="1084" name="图片 63489" descr=""/>
            <p:cNvPicPr/>
            <p:nvPr/>
          </p:nvPicPr>
          <p:blipFill>
            <a:blip r:embed="rId1"/>
            <a:stretch/>
          </p:blipFill>
          <p:spPr>
            <a:xfrm>
              <a:off x="566640" y="765000"/>
              <a:ext cx="8010720" cy="21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图片 63490" descr=""/>
            <p:cNvPicPr/>
            <p:nvPr/>
          </p:nvPicPr>
          <p:blipFill>
            <a:blip r:embed="rId2"/>
            <a:stretch/>
          </p:blipFill>
          <p:spPr>
            <a:xfrm>
              <a:off x="533520" y="3141720"/>
              <a:ext cx="8076960" cy="31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6" name="Picture 1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7993080" cy="4237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4"/>
          <a:stretch/>
        </p:blipFill>
        <p:spPr>
          <a:xfrm>
            <a:off x="395280" y="1355760"/>
            <a:ext cx="7993080" cy="4237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5"/>
          <a:stretch/>
        </p:blipFill>
        <p:spPr>
          <a:xfrm>
            <a:off x="324000" y="1916280"/>
            <a:ext cx="7993080" cy="4237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6"/>
          <a:stretch/>
        </p:blipFill>
        <p:spPr>
          <a:xfrm>
            <a:off x="539640" y="2492280"/>
            <a:ext cx="7993080" cy="4240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7"/>
          <a:stretch/>
        </p:blipFill>
        <p:spPr>
          <a:xfrm>
            <a:off x="468360" y="3141720"/>
            <a:ext cx="7993080" cy="4237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8"/>
          <a:stretch/>
        </p:blipFill>
        <p:spPr>
          <a:xfrm>
            <a:off x="395280" y="3645000"/>
            <a:ext cx="7993080" cy="4237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9"/>
          <a:stretch/>
        </p:blipFill>
        <p:spPr>
          <a:xfrm>
            <a:off x="468360" y="4221000"/>
            <a:ext cx="8351640" cy="4240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10"/>
          <a:stretch/>
        </p:blipFill>
        <p:spPr>
          <a:xfrm>
            <a:off x="179280" y="4738680"/>
            <a:ext cx="8352000" cy="42372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11"/>
          <a:stretch/>
        </p:blipFill>
        <p:spPr>
          <a:xfrm>
            <a:off x="395280" y="5373720"/>
            <a:ext cx="8352000" cy="4237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12"/>
          <a:stretch/>
        </p:blipFill>
        <p:spPr>
          <a:xfrm>
            <a:off x="395280" y="5877000"/>
            <a:ext cx="835200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图片 62465" descr=""/>
          <p:cNvPicPr/>
          <p:nvPr/>
        </p:nvPicPr>
        <p:blipFill>
          <a:blip r:embed="rId1"/>
          <a:stretch/>
        </p:blipFill>
        <p:spPr>
          <a:xfrm>
            <a:off x="276120" y="890640"/>
            <a:ext cx="8591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图片 61441" descr=""/>
          <p:cNvPicPr/>
          <p:nvPr/>
        </p:nvPicPr>
        <p:blipFill>
          <a:blip r:embed="rId1"/>
          <a:stretch/>
        </p:blipFill>
        <p:spPr>
          <a:xfrm>
            <a:off x="471600" y="942840"/>
            <a:ext cx="82008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图片 70657" descr=""/>
          <p:cNvPicPr/>
          <p:nvPr/>
        </p:nvPicPr>
        <p:blipFill>
          <a:blip r:embed="rId1"/>
          <a:stretch/>
        </p:blipFill>
        <p:spPr>
          <a:xfrm>
            <a:off x="480960" y="1062000"/>
            <a:ext cx="8182080" cy="47340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2"/>
          <a:stretch/>
        </p:blipFill>
        <p:spPr>
          <a:xfrm>
            <a:off x="395280" y="1111320"/>
            <a:ext cx="5761080" cy="4237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3"/>
          <a:stretch/>
        </p:blipFill>
        <p:spPr>
          <a:xfrm>
            <a:off x="324000" y="1643040"/>
            <a:ext cx="5760720" cy="7779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4"/>
          <a:stretch/>
        </p:blipFill>
        <p:spPr>
          <a:xfrm>
            <a:off x="250920" y="2622600"/>
            <a:ext cx="8424720" cy="4237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5"/>
          <a:stretch/>
        </p:blipFill>
        <p:spPr>
          <a:xfrm>
            <a:off x="525600" y="3170160"/>
            <a:ext cx="3168360" cy="4240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6"/>
          <a:stretch/>
        </p:blipFill>
        <p:spPr>
          <a:xfrm>
            <a:off x="3708360" y="3170160"/>
            <a:ext cx="3743280" cy="4240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7"/>
          <a:stretch/>
        </p:blipFill>
        <p:spPr>
          <a:xfrm>
            <a:off x="324000" y="3774960"/>
            <a:ext cx="8424720" cy="73368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8"/>
          <a:stretch/>
        </p:blipFill>
        <p:spPr>
          <a:xfrm>
            <a:off x="324000" y="4667400"/>
            <a:ext cx="8424720" cy="4237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9"/>
          <a:stretch/>
        </p:blipFill>
        <p:spPr>
          <a:xfrm>
            <a:off x="324000" y="5229360"/>
            <a:ext cx="8424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623960" y="917640"/>
            <a:ext cx="5896080" cy="52480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5724360" y="2736720"/>
            <a:ext cx="1800360" cy="4366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317600" y="3313080"/>
            <a:ext cx="1800360" cy="4366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3492360" y="4465800"/>
            <a:ext cx="1150920" cy="4363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4140360" y="5603760"/>
            <a:ext cx="115092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59410" descr=""/>
          <p:cNvPicPr/>
          <p:nvPr/>
        </p:nvPicPr>
        <p:blipFill>
          <a:blip r:embed="rId1"/>
          <a:stretch/>
        </p:blipFill>
        <p:spPr>
          <a:xfrm>
            <a:off x="1633680" y="2171880"/>
            <a:ext cx="5876640" cy="25146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2050920" y="2781360"/>
            <a:ext cx="2881440" cy="8208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908000" y="3759120"/>
            <a:ext cx="15116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58373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886360" cy="61149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3708360" y="4595760"/>
            <a:ext cx="3888000" cy="4366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619280" y="5157720"/>
            <a:ext cx="4824360" cy="4366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6458040" y="5157720"/>
            <a:ext cx="1138320" cy="4366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1576440" y="5734080"/>
            <a:ext cx="1138320" cy="4366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2771640" y="5703840"/>
            <a:ext cx="5040360" cy="4366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7"/>
          <a:stretch/>
        </p:blipFill>
        <p:spPr>
          <a:xfrm>
            <a:off x="755640" y="6251400"/>
            <a:ext cx="504036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7352" descr=""/>
          <p:cNvPicPr/>
          <p:nvPr/>
        </p:nvPicPr>
        <p:blipFill>
          <a:blip r:embed="rId1"/>
          <a:stretch/>
        </p:blipFill>
        <p:spPr>
          <a:xfrm>
            <a:off x="1600200" y="1461960"/>
            <a:ext cx="5943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6324" descr=""/>
          <p:cNvPicPr/>
          <p:nvPr/>
        </p:nvPicPr>
        <p:blipFill>
          <a:blip r:embed="rId1"/>
          <a:stretch/>
        </p:blipFill>
        <p:spPr>
          <a:xfrm>
            <a:off x="1633680" y="1762200"/>
            <a:ext cx="5876640" cy="3333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3592440" y="4624560"/>
            <a:ext cx="51768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5300" descr=""/>
          <p:cNvPicPr/>
          <p:nvPr/>
        </p:nvPicPr>
        <p:blipFill>
          <a:blip r:embed="rId1"/>
          <a:stretch/>
        </p:blipFill>
        <p:spPr>
          <a:xfrm>
            <a:off x="223920" y="1200240"/>
            <a:ext cx="8696160" cy="44575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8244000" y="2708280"/>
            <a:ext cx="431640" cy="3636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8244000" y="3529080"/>
            <a:ext cx="431640" cy="3636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3564000" y="5229360"/>
            <a:ext cx="64764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4276" descr=""/>
          <p:cNvPicPr/>
          <p:nvPr/>
        </p:nvPicPr>
        <p:blipFill>
          <a:blip r:embed="rId1"/>
          <a:stretch/>
        </p:blipFill>
        <p:spPr>
          <a:xfrm>
            <a:off x="214200" y="1509840"/>
            <a:ext cx="8715600" cy="38383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468360" y="3386160"/>
            <a:ext cx="7632720" cy="3636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468360" y="3803760"/>
            <a:ext cx="7632720" cy="3636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438120" y="4292640"/>
            <a:ext cx="7632720" cy="3636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8101080" y="4235400"/>
            <a:ext cx="1042920" cy="3636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611280" y="4724280"/>
            <a:ext cx="104292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2231" descr=""/>
          <p:cNvPicPr/>
          <p:nvPr/>
        </p:nvPicPr>
        <p:blipFill>
          <a:blip r:embed="rId1"/>
          <a:stretch/>
        </p:blipFill>
        <p:spPr>
          <a:xfrm>
            <a:off x="247680" y="1662120"/>
            <a:ext cx="8648640" cy="3533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7775640" cy="3636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7775280" cy="3632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7775280" cy="3636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179280" y="3860640"/>
            <a:ext cx="7775640" cy="3636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324000" y="4292640"/>
            <a:ext cx="7775280" cy="3636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179280" y="4724280"/>
            <a:ext cx="777564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4:05:0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